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7.gif" ContentType="image/gif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8E29-32CF-4D42-B073-4F3CFD60B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8C5F97-6459-42C8-B33B-3CDC6364E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EA711F-0FFF-4C66-9C0A-714CD7CCA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39612A-2575-4DAF-AFDB-38F1E5740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6E9E09-0B4E-4BED-A56B-F4A972211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B1715F-DE1B-430F-9A95-99B3C4F72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C38C9B-251F-41D0-9DC6-F5050C7C2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125E3A-420A-4FAD-B8C8-C8D0ADC13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C434E4-FC7D-4623-BB14-9E80B2FCC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3E2-D601-4448-8DD5-E7222AA5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D0A7-2B02-41C0-A66B-B51E0BC1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17C2-4D01-429F-BA62-330D28AF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BC3-D958-414A-A610-00923126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B90E-BDDA-4A09-A2BD-D4EF38F4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0CB-AB0B-4433-A86E-DC3ACFD8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E4B-4AAF-4274-9A10-8F65CCF0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D60-F733-4F94-B007-333A1977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771-BF8E-40BC-8F4C-E780EA21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E2B4-DA0E-4EE1-B1FD-58CA51D1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E426-5874-4E67-A855-319C841A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0085-4027-4CE5-9CCE-F8FE4C89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AF24-C67F-401E-9D8A-5C3ACC792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410C-C144-4BA8-8798-58997EBD28E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Universal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mbo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AE56-C3E6-467C-8FCF-C8EA7F8C68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666880" y="3095640"/>
            <a:ext cx="381024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ylindrica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mbo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767D-5F1F-4AC5-81AE-9936081C68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untitled"/>
          <p:cNvPicPr/>
          <p:nvPr/>
        </p:nvPicPr>
        <p:blipFill>
          <a:blip r:embed="rId1"/>
          <a:stretch/>
        </p:blipFill>
        <p:spPr>
          <a:xfrm>
            <a:off x="2666880" y="2514600"/>
            <a:ext cx="245772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ll-and-socket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herical jo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mbol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08C0-5721-4BD4-ABBC-992A5D38EEB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sper"/>
          <p:cNvPicPr/>
          <p:nvPr/>
        </p:nvPicPr>
        <p:blipFill>
          <a:blip r:embed="rId2"/>
          <a:stretch/>
        </p:blipFill>
        <p:spPr>
          <a:xfrm>
            <a:off x="4876920" y="2743200"/>
            <a:ext cx="32652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ipul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D166-1A59-42CB-99B6-52D42B5D60E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8" descr="manipulator-articulateed"/>
          <p:cNvPicPr/>
          <p:nvPr/>
        </p:nvPicPr>
        <p:blipFill>
          <a:blip r:embed="rId1"/>
          <a:stretch/>
        </p:blipFill>
        <p:spPr>
          <a:xfrm>
            <a:off x="838080" y="4114800"/>
            <a:ext cx="2133720" cy="176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30" descr="manipulator-cartesian"/>
          <p:cNvPicPr/>
          <p:nvPr/>
        </p:nvPicPr>
        <p:blipFill>
          <a:blip r:embed="rId2"/>
          <a:stretch/>
        </p:blipFill>
        <p:spPr>
          <a:xfrm>
            <a:off x="838080" y="1523880"/>
            <a:ext cx="2028960" cy="1959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31" descr="manipulator-cylindrical"/>
          <p:cNvPicPr/>
          <p:nvPr/>
        </p:nvPicPr>
        <p:blipFill>
          <a:blip r:embed="rId3"/>
          <a:stretch/>
        </p:blipFill>
        <p:spPr>
          <a:xfrm>
            <a:off x="3352680" y="1523880"/>
            <a:ext cx="2286000" cy="1820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32" descr="manipulator-spherical"/>
          <p:cNvPicPr/>
          <p:nvPr/>
        </p:nvPicPr>
        <p:blipFill>
          <a:blip r:embed="rId4"/>
          <a:stretch/>
        </p:blipFill>
        <p:spPr>
          <a:xfrm>
            <a:off x="6172200" y="1295280"/>
            <a:ext cx="2057400" cy="200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3" descr="manipulator-SCARA"/>
          <p:cNvPicPr/>
          <p:nvPr/>
        </p:nvPicPr>
        <p:blipFill>
          <a:blip r:embed="rId5"/>
          <a:stretch/>
        </p:blipFill>
        <p:spPr>
          <a:xfrm>
            <a:off x="3200400" y="3886200"/>
            <a:ext cx="2438280" cy="16905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34"/>
          <p:cNvSpPr/>
          <p:nvPr/>
        </p:nvSpPr>
        <p:spPr>
          <a:xfrm>
            <a:off x="83808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tesian: 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35"/>
          <p:cNvSpPr/>
          <p:nvPr/>
        </p:nvSpPr>
        <p:spPr>
          <a:xfrm>
            <a:off x="3581280" y="3429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ylindrical: R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36"/>
          <p:cNvSpPr/>
          <p:nvPr/>
        </p:nvSpPr>
        <p:spPr>
          <a:xfrm>
            <a:off x="62485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herical: R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37"/>
          <p:cNvSpPr/>
          <p:nvPr/>
        </p:nvSpPr>
        <p:spPr>
          <a:xfrm>
            <a:off x="3200400" y="5638680"/>
            <a:ext cx="236232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elective Compliance Assembly Robot Ar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38"/>
          <p:cNvSpPr/>
          <p:nvPr/>
        </p:nvSpPr>
        <p:spPr>
          <a:xfrm>
            <a:off x="762120" y="5943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ticulated: R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39" descr="manipulator-tool"/>
          <p:cNvPicPr/>
          <p:nvPr/>
        </p:nvPicPr>
        <p:blipFill>
          <a:blip r:embed="rId6"/>
          <a:stretch/>
        </p:blipFill>
        <p:spPr>
          <a:xfrm>
            <a:off x="6324480" y="3962520"/>
            <a:ext cx="1828800" cy="1282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40"/>
          <p:cNvSpPr/>
          <p:nvPr/>
        </p:nvSpPr>
        <p:spPr>
          <a:xfrm>
            <a:off x="5791320" y="5181480"/>
            <a:ext cx="37335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 coordin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normal vector;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sliding vecto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approach vector, normal to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 mounting 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configur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the manipulator is a complete specification of the location of every point on the manipul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know the values for th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joint variabl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(joint angle for revolute joints or joint offset for prismatic joints), it is straightforward to infer the position of any point on the manipul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 configuration is represented by a set of values for the joint variabl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object is said to hav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grees of freedom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DOF)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ts configuration can be minimally specified by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 parame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robot manipulator, the number of joints determine the number of DO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ach any point in the space with an arbitrary orientation: 6 DOF (3 DOF f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sitio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3 DOF f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than 6 DOF: the arm cant reach any point in the space with an arbitrary ori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6 DOF: Kinematically redundant manipula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tain applications may require more than 6 DOF, 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tacle Avoid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rkspace of the manipulator is the total volume swept out by the end effector as the manipulator executes all possible mo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space is constrain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metry of the manipul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 constraint of the joints (a revolute joint may be limited to less than 360 degre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video.avi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69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6504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achable Workspac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entire set of points reachable by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ipula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extrous Workspac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sists of those points that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ipulator can reach with an arbitrary orientation of the end effe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extrous Workspac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s a subset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achable Worksp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rk W. Spong, Seth Hutchins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M. Vidyasagar,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bot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Control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” 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ey , 20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BN-10: 047164990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BN-13: 978-0471649908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27511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formance Mea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curac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s a measure of how close the manipulator can come to a given point within its worksp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eat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s a measure of how close the manipulator can return to a previously taught p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st and End Eff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st: the joints between the arm and the end eff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ly, the arm controls the position of the end effector, and the wrist controls the orient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DOF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ypical wrist would have 3 DOF described as roll, pitch and yaw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oll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ation around the arm ax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itch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 and down movement (assuming the roll is in its centre position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aw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ght to left rotation (assuming the roll is in its centre posi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wrist.jpg"/>
          <p:cNvPicPr/>
          <p:nvPr/>
        </p:nvPicPr>
        <p:blipFill>
          <a:blip r:embed="rId1"/>
          <a:stretch/>
        </p:blipFill>
        <p:spPr>
          <a:xfrm>
            <a:off x="3200400" y="4114800"/>
            <a:ext cx="5000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Eff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evice on the end of the arm, attached via the wrist, that performs the task, such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ippers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o hold and move obj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ols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perform work on a part, not just to pick it up. A tool could be held by a gripper, making the system more flex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D:\Documents and Settings\Ayssam\Desktop\gripper-t.gif"/>
          <p:cNvPicPr/>
          <p:nvPr/>
        </p:nvPicPr>
        <p:blipFill>
          <a:blip r:embed="rId1"/>
          <a:stretch/>
        </p:blipFill>
        <p:spPr>
          <a:xfrm>
            <a:off x="4038480" y="4762440"/>
            <a:ext cx="38102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. Craig, Introduction to Robotics: Mechanics and Control,” 2nd editio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ISBN: 0-201-52539-9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s Cove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orm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verse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acob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ajectory gen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obot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Robot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 –A reprogrammable manipulator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to perform specific mechanical functions such as move material and pa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Robotics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science dealing with design, construction and operation of rob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ipul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bot manipulators are composed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k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ed b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joi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1400"/>
          <p:cNvPicPr/>
          <p:nvPr/>
        </p:nvPicPr>
        <p:blipFill>
          <a:blip r:embed="rId1"/>
          <a:stretch/>
        </p:blipFill>
        <p:spPr>
          <a:xfrm>
            <a:off x="990720" y="2895480"/>
            <a:ext cx="239688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photo"/>
          <p:cNvPicPr/>
          <p:nvPr/>
        </p:nvPicPr>
        <p:blipFill>
          <a:blip r:embed="rId2"/>
          <a:stretch/>
        </p:blipFill>
        <p:spPr>
          <a:xfrm>
            <a:off x="4419720" y="2819520"/>
            <a:ext cx="41148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joint is the connection between two or more links at their nod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nstrains the motions of the connected lin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joint can be classified a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e-DO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-DO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-D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F57B-EE84-46F6-8358-0190F291BDE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Revolut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j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ses a rotational mo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mbol 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B6C4-3BDF-4ECC-804D-755C744888D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4457880" cy="2724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Prismatic Joint"/>
          <p:cNvPicPr/>
          <p:nvPr/>
        </p:nvPicPr>
        <p:blipFill>
          <a:blip r:embed="rId2"/>
          <a:stretch/>
        </p:blipFill>
        <p:spPr>
          <a:xfrm>
            <a:off x="6019920" y="31240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ismatic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ses a translational mo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mbol: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FF59-7AAF-480F-956C-0786B3B186B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2176560" cy="239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Prismatic Joint"/>
          <p:cNvPicPr/>
          <p:nvPr/>
        </p:nvPicPr>
        <p:blipFill>
          <a:blip r:embed="rId2"/>
          <a:stretch/>
        </p:blipFill>
        <p:spPr>
          <a:xfrm rot="16200000">
            <a:off x="5324400" y="2828880"/>
            <a:ext cx="2286000" cy="291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yssam</cp:lastModifiedBy>
  <dcterms:modified xsi:type="dcterms:W3CDTF">2009-09-03T03:16:23Z</dcterms:modified>
  <cp:revision>62</cp:revision>
  <dc:subject/>
  <dc:title>Slide 1</dc:title>
</cp:coreProperties>
</file>